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9C8-B536-45FE-AEAF-F85D1BEE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8CD-8072-4BF1-A410-D7491637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E9A-059F-425F-9F43-7C17E0E6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20C-2721-4CB7-8481-68260C0C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4122-72B6-423C-A8BB-A26C770D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901D-0F44-4829-8AC7-47E24A03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601D-F7B9-4E5B-ADEC-7389BEEB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340C-D7DA-497A-BC09-D831C658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E0D3-63AD-4B07-8F1D-9984EC75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AC23-A710-4C66-AC51-176F19F2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E307-F5E9-45C8-B745-38DDEF0D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00C-A6D8-4F5C-8C04-B68F3378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FCBA-D54D-4660-9EBC-240C14AD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54A8-054C-4505-8A49-C8982FE4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B54D-9AD3-4025-B723-443D6A0A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FDB6-45C7-46B5-B31D-8D34F1A7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29D4-D717-4931-8E88-159DBB4C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66C6-F003-4547-9853-FC6C1CC4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200-593C-4144-903B-510BF6DC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507-DB10-4B9C-B8FB-30E0B0C3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CAC5-DB78-4C2F-959D-BC7171BD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DF2-B7EB-45CA-90B1-4FDCF54E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D88-0C60-49BC-A2CB-2BF8F59B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F0A-592A-448B-91CB-A5E6B516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DD3B-3C8C-471B-8143-3DD1427FA74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A379-5D74-4B62-90B6-F1BBDB142A8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09480" y="762120"/>
            <a:ext cx="8077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евино  о` Девел</a:t>
            </a:r>
            <a:endParaRPr b="1" i="1" lang="en-US" sz="5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4648320"/>
            <a:ext cx="76197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винен Господ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686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6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0"/>
            <a:ext cx="4557600" cy="4117320"/>
          </a:xfrm>
          <a:prstGeom prst="rect">
            <a:avLst/>
          </a:prstGeom>
          <a:gradFill rotWithShape="0">
            <a:gsLst>
              <a:gs pos="0">
                <a:srgbClr val="ff3300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ЕК РАТ АВРИ БЕШ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КО НЕБЕ ДИК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МО ВОГИ РОВЕЛ,РОВ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САР ТЕ БИСТР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О`ДЕВЕЛ СО КЕРГЯ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ТАРО БЕНГ МАН  СПАСИНГЯС.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92640" y="533520"/>
            <a:ext cx="3746880" cy="3448080"/>
          </a:xfrm>
          <a:prstGeom prst="rect">
            <a:avLst/>
          </a:prstGeom>
          <a:gradFill rotWithShape="0">
            <a:gsLst>
              <a:gs pos="0">
                <a:srgbClr val="ff3300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ЕДНА ВЕЧЕР ВЪН СТОЯ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КЪМ НЕБЕТО ГЛЕД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И ДУШАТА МИ ПЛАЧЕШ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КАК ДА ЗАБРАВЯ ГОСПОД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КАКВО НАПРАВИ ЗА МЕН ?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МЕН ОТ САТАНА ТОЙ СПАСИ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0760" y="0"/>
            <a:ext cx="3996720" cy="4848840"/>
          </a:xfrm>
          <a:prstGeom prst="rect">
            <a:avLst/>
          </a:prstGeom>
          <a:gradFill rotWithShape="0">
            <a:gsLst>
              <a:gs pos="0">
                <a:srgbClr val="720000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ffff"/>
                </a:solidFill>
                <a:latin typeface="Tahoma"/>
              </a:rPr>
              <a:t>/  </a:t>
            </a: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НЕВИНО О`ДЕВЕЛ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КО КРЪСТОС ВОВ ГЕЛО 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МАНГЕ  ТА ТУКЕ ВО МУ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ТЕ ЖАНЕ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СО БУТ СТРАДИНГЯ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АМЕНГЕ ВСИЧ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ВО ТЪРПИНГЯС. 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56360" y="5060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14840" y="152280"/>
            <a:ext cx="3481560" cy="466776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72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НЕВИНЕН ГОСПО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НА КРЪСТА ОТИ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ЗА МЕН И ЗА ТЕ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ТОЙ УМР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АКО БИХТЕ ЗНАЕ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КОЛКО МНОГО СТРАДАШЕ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ЗАРАДИ НА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ТОЙ ВСИЧКО ИЗТЪРП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700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0640" y="228600"/>
            <a:ext cx="4173480" cy="521460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72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КО КРЪСТОС ЛЕС ТОВГЕЛ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КРАФЕНЦА  КОВИНГЕЛ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АМЕНГЕ ВАКЕРЕЛ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ДЕХАВ ТУМЕН МЕ ЧА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МА БИСТЕР М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/ МА МАНДА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1" i="1" lang="bg-BG" sz="2400" spc="-1" strike="noStrike">
                <a:solidFill>
                  <a:srgbClr val="000000"/>
                </a:solidFill>
                <a:latin typeface="Tahoma"/>
              </a:rPr>
              <a:t>ТЕ НАНАШЕНА  3</a:t>
            </a: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 )/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10200" y="457200"/>
            <a:ext cx="3875040" cy="4057920"/>
          </a:xfrm>
          <a:prstGeom prst="rect">
            <a:avLst/>
          </a:prstGeom>
          <a:gradFill rotWithShape="0">
            <a:gsLst>
              <a:gs pos="0">
                <a:srgbClr val="ff3300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НА КРЪСТ ГО СЛОЖИ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И С ГВОЗДЕЙ  ГО ПРИКОВАХ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НА НАС КАЗВА 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ЧЕ МНОГО НИ ОБИЧ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ДЕЦА М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НЕ МЕ ЗАБРАВЯЙ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И ОТ МЕН НЕ БЯГАЙТЕ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2000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0480" y="228600"/>
            <a:ext cx="4452480" cy="5214600"/>
          </a:xfrm>
          <a:prstGeom prst="rect">
            <a:avLst/>
          </a:prstGeom>
          <a:gradFill rotWithShape="0">
            <a:gsLst>
              <a:gs pos="0">
                <a:srgbClr val="720000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ШУНЕНА ЛИ ПРАЛАЛ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ДИКЕНА ЛИ ТУ 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О`ДЕВЕЛ АМЕНГЕ СОКЕРГЯС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СО СИ ЛЮБ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АМЕНГЕ СИ КАВГЯ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КО КРЪСТОС АМЕНГ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ВО ГЕ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01200" y="457200"/>
            <a:ext cx="2670840" cy="4667760"/>
          </a:xfrm>
          <a:prstGeom prst="rect">
            <a:avLst/>
          </a:prstGeom>
          <a:gradFill rotWithShape="0">
            <a:gsLst>
              <a:gs pos="0">
                <a:srgbClr val="720000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ЧУВАТЕ ЛИ БРАТЯ 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ВИЖДАТЕ ЛИ ВИЕ 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ГОСПОД КАКВ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НАПРАВИ ЗА НАС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КОЛКО М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НИ ВЪЗЛЮБ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ЧЕ ЗА НАС НАКРЪС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ТОЙ УМ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2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4419720" cy="6677640"/>
          </a:xfrm>
          <a:prstGeom prst="rect">
            <a:avLst/>
          </a:prstGeom>
          <a:gradFill rotWithShape="0">
            <a:gsLst>
              <a:gs pos="0">
                <a:srgbClr val="ffff00">
                  <a:alpha val="20000"/>
                </a:srgbClr>
              </a:gs>
              <a:gs pos="100000">
                <a:srgbClr val="8c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/ НЕВИНО О`ДЕВЕ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КО КРЪСТО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ВОВ ГЕЛО 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МАНГЕ  ТА ТУ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ВО МУ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ТЕ ЖАНЕ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СО БУТ СТРАДИНГЯ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АМЕНГЕ ВСИЧ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ВО ТЪРПИНГЯС. /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14120" y="304920"/>
            <a:ext cx="3481560" cy="4972680"/>
          </a:xfrm>
          <a:prstGeom prst="rect">
            <a:avLst/>
          </a:prstGeom>
          <a:gradFill rotWithShape="0">
            <a:gsLst>
              <a:gs pos="0">
                <a:srgbClr val="720000">
                  <a:alpha val="20000"/>
                </a:srgbClr>
              </a:gs>
              <a:gs pos="100000">
                <a:srgbClr val="ffcc66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НЕВИНЕН ГОСПО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НА КРЪСТА ОТИ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ЗА МЕН И ЗА ТЕ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ТОЙ УМРЯ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АКО БИХТЕ ЗНАЕ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КОЛКО МНОГО СТРАДАШ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ЗАРАДИ НА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bg-BG" sz="2000" spc="-1" strike="noStrike">
                <a:solidFill>
                  <a:srgbClr val="ffffff"/>
                </a:solidFill>
                <a:latin typeface="Tahoma"/>
              </a:rPr>
              <a:t>ТОЙ ВСИЧКО ИЗТЪРП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5000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7472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9320" y="0"/>
            <a:ext cx="4173480" cy="5214600"/>
          </a:xfrm>
          <a:prstGeom prst="rect">
            <a:avLst/>
          </a:prstGeom>
          <a:gradFill rotWithShape="0">
            <a:gsLst>
              <a:gs pos="0">
                <a:srgbClr val="be7960">
                  <a:alpha val="20000"/>
                </a:srgbClr>
              </a:gs>
              <a:gs pos="100000">
                <a:srgbClr val="72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КО КРЪСТОС ЛЕС ТОВГЕЛ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КРАФЕНЦА  КОВИНГЕЛЕ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АМЕНГЕ ВАКЕРЕЛ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ДЕХАВ ТУМЕН МЕ ЧА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МА БИСТЕР М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/ </a:t>
            </a: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МА МАНДА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1" i="1" lang="bg-BG" sz="2400" spc="-1" strike="noStrike">
                <a:solidFill>
                  <a:srgbClr val="000000"/>
                </a:solidFill>
                <a:latin typeface="Tahoma"/>
              </a:rPr>
              <a:t>ТЕ НАНАШЕНА</a:t>
            </a:r>
            <a:r>
              <a:rPr b="1" i="1" lang="bg-BG" sz="2400" spc="-1" strike="noStrike">
                <a:solidFill>
                  <a:srgbClr val="ffffff"/>
                </a:solidFill>
                <a:latin typeface="Tahoma"/>
              </a:rPr>
              <a:t> 7) 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0"/>
            <a:ext cx="4343400" cy="3660120"/>
          </a:xfrm>
          <a:prstGeom prst="rect">
            <a:avLst/>
          </a:prstGeom>
          <a:gradFill rotWithShape="0">
            <a:gsLst>
              <a:gs pos="0">
                <a:srgbClr val="be7960">
                  <a:alpha val="20000"/>
                </a:srgbClr>
              </a:gs>
              <a:gs pos="100000">
                <a:srgbClr val="8c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ffff"/>
                </a:solidFill>
                <a:latin typeface="Tahoma"/>
              </a:rPr>
              <a:t>НА КРЪСТ ГО СЛОЖИ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ffff"/>
                </a:solidFill>
                <a:latin typeface="Tahoma"/>
              </a:rPr>
              <a:t>И С ГВОЗДЕЙ  ГО ПРИКОВАХ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ffff"/>
                </a:solidFill>
                <a:latin typeface="Tahoma"/>
              </a:rPr>
              <a:t>НА НАС КАЗВА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ffff"/>
                </a:solidFill>
                <a:latin typeface="Tahoma"/>
              </a:rPr>
              <a:t>ЧЕ МНОГО НИ ОБИЧ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1" i="1" lang="bg-BG" sz="1800" spc="-1" strike="noStrike">
                <a:solidFill>
                  <a:srgbClr val="ffffff"/>
                </a:solidFill>
                <a:latin typeface="Tahoma"/>
              </a:rPr>
              <a:t>ДЕЦА М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ffff"/>
                </a:solidFill>
                <a:latin typeface="Tahoma"/>
              </a:rPr>
              <a:t>НЕ МЕ ЗАБРАВЯЙ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ffff"/>
                </a:solidFill>
                <a:latin typeface="Tahoma"/>
              </a:rPr>
              <a:t>И ОТ МЕН НЕ БЯГАЙТЕ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4000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52:25Z</dcterms:created>
  <dc:creator>TrifonTrifonow</dc:creator>
  <dc:description/>
  <dc:language>en-US</dc:language>
  <cp:lastModifiedBy>TrifonTrifonow</cp:lastModifiedBy>
  <dcterms:modified xsi:type="dcterms:W3CDTF">2006-01-11T16:23:02Z</dcterms:modified>
  <cp:revision>2</cp:revision>
  <dc:subject/>
  <dc:title>Slide 1</dc:title>
</cp:coreProperties>
</file>